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422000" y="5245200"/>
            <a:ext cx="10541160" cy="121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422000" y="8703720"/>
            <a:ext cx="1054116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23800" y="78613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220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23800" y="8703720"/>
            <a:ext cx="51440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8600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550360" y="78613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422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98600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550360" y="8703720"/>
            <a:ext cx="339408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4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5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7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sian Invasions ppt.ppt_media/해신.mov" descr=""/>
          <p:cNvPicPr/>
          <p:nvPr/>
        </p:nvPicPr>
        <p:blipFill>
          <a:blip r:embed="rId2"/>
          <a:stretch/>
        </p:blipFill>
        <p:spPr>
          <a:xfrm rot="10800000">
            <a:off x="0" y="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22000" y="519444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Asian Invasians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31560" y="773424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Nick Yun, Jenny Cho, Jae song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1460520" y="1574640"/>
            <a:ext cx="765792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01800" y="-317880"/>
            <a:ext cx="1054080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First Opium War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879200" y="76327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291960" y="2819520"/>
            <a:ext cx="12408120" cy="6643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14240" y="-355680"/>
            <a:ext cx="109220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Victory for Britain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365280" y="5410080"/>
            <a:ext cx="6273720" cy="576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Britain won the war easily because they had better military technology and definitely more experience in warfare. 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2933640" y="2286000"/>
            <a:ext cx="6121440" cy="306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reaty of Nanjing 1842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British gained more freedom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British nationals were subject to only British law regardless if crimes were committed on Chinese soil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e British no longer had to pay the stiff trading tariffs that had cut into profit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open ports for the British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0" y="0"/>
            <a:ext cx="4457880" cy="5880240"/>
            <a:chOff x="0" y="0"/>
            <a:chExt cx="4457880" cy="5880240"/>
          </a:xfrm>
        </p:grpSpPr>
        <p:pic>
          <p:nvPicPr>
            <p:cNvPr id="788" name="" descr=""/>
            <p:cNvPicPr/>
            <p:nvPr/>
          </p:nvPicPr>
          <p:blipFill>
            <a:blip r:embed="rId2"/>
            <a:srcRect l="0" t="0" r="46710" b="0"/>
            <a:stretch/>
          </p:blipFill>
          <p:spPr>
            <a:xfrm>
              <a:off x="88920" y="76320"/>
              <a:ext cx="42926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57880" cy="58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More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As a result, over the next 30 years, the opium consumation continued to increase. 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Ganghwa Inciden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64800" y="2285640"/>
            <a:ext cx="1148076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46461"/>
                </a:solidFill>
                <a:latin typeface="Helvetica Neue"/>
              </a:rPr>
              <a:t>Korea was taking a anti foreigner step and attacking any foreign powers trying to imperialize</a:t>
            </a:r>
            <a:endParaRPr b="0" lang="en-US" sz="38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46461"/>
                </a:solidFill>
                <a:latin typeface="Helvetica Neue"/>
              </a:rPr>
              <a:t>They misguidedly attacked a Japanese ship</a:t>
            </a:r>
            <a:endParaRPr b="0" lang="en-US" sz="38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46461"/>
                </a:solidFill>
                <a:latin typeface="Helvetica Neue"/>
              </a:rPr>
              <a:t>Japan demanded an apology and made a treaty  </a:t>
            </a:r>
            <a:endParaRPr b="0" lang="en-US" sz="38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666520" y="252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Attack on Ganghwa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12229920" cy="58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reaty of Ganghwa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ade korea independent from tribute to China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rced Korea to open 3 ports to Japan (Busan, Incheon and Wonsan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ade Korea very susceptible to imperialistic power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onghak Rebellion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onghak means eastern learning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Korean uprising to against povert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Wanted to restore political stabilit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ried to counter foreign influenc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atalyst of Sino-Japanese War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4a7594"/>
                </a:solidFill>
                <a:latin typeface="Helvetica Neue Light"/>
              </a:rPr>
              <a:t>First Sino-Japanese War</a:t>
            </a:r>
            <a:endParaRPr b="0" lang="en-US" sz="77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14264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1"/>
                </a:solidFill>
                <a:latin typeface="Helvetica Neue"/>
              </a:rPr>
              <a:t>August 1894 ~ 17 April 1895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1"/>
                </a:solidFill>
                <a:latin typeface="Helvetica Neue"/>
              </a:rPr>
              <a:t>War of Qing dynasty China and Meiji Japan fighting over Korea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1"/>
                </a:solidFill>
                <a:latin typeface="Helvetica Neue"/>
              </a:rPr>
              <a:t>Japan wanted korea for resources such as coal to fuel their industry and also to expand their powers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1"/>
                </a:solidFill>
                <a:latin typeface="Helvetica Neue"/>
              </a:rPr>
              <a:t>China also wanted to expand to prevent being taken over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1"/>
                </a:solidFill>
                <a:latin typeface="Helvetica Neue"/>
              </a:rPr>
              <a:t>Japan wins the war by dominating the sea 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0"/>
            <a:ext cx="4457880" cy="5880240"/>
            <a:chOff x="0" y="0"/>
            <a:chExt cx="4457880" cy="5880240"/>
          </a:xfrm>
        </p:grpSpPr>
        <p:pic>
          <p:nvPicPr>
            <p:cNvPr id="804" name="" descr=""/>
            <p:cNvPicPr/>
            <p:nvPr/>
          </p:nvPicPr>
          <p:blipFill>
            <a:blip r:embed="rId2"/>
            <a:srcRect l="9916" t="0" r="37749" b="0"/>
            <a:stretch/>
          </p:blipFill>
          <p:spPr>
            <a:xfrm>
              <a:off x="88920" y="76320"/>
              <a:ext cx="42926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57880" cy="58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419040" y="546120"/>
            <a:ext cx="6899400" cy="9029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0" y="0"/>
            <a:ext cx="4457880" cy="5880240"/>
            <a:chOff x="0" y="0"/>
            <a:chExt cx="4457880" cy="5880240"/>
          </a:xfrm>
        </p:grpSpPr>
        <p:pic>
          <p:nvPicPr>
            <p:cNvPr id="751" name="" descr=""/>
            <p:cNvPicPr/>
            <p:nvPr/>
          </p:nvPicPr>
          <p:blipFill>
            <a:blip r:embed="rId2"/>
            <a:srcRect l="0" t="5524" r="0" b="5719"/>
            <a:stretch/>
          </p:blipFill>
          <p:spPr>
            <a:xfrm>
              <a:off x="88920" y="76320"/>
              <a:ext cx="42926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57880" cy="58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549080" y="114480"/>
            <a:ext cx="5334120" cy="286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hina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549080" y="325080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China has many internal resources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Thinks their culture is superior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Has no reason to be influenced by foreign nations.  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4"/>
          <a:stretch/>
        </p:blipFill>
        <p:spPr>
          <a:xfrm>
            <a:off x="7620120" y="1930320"/>
            <a:ext cx="4381560" cy="5918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0" y="0"/>
            <a:ext cx="4457880" cy="5880240"/>
            <a:chOff x="0" y="0"/>
            <a:chExt cx="4457880" cy="5880240"/>
          </a:xfrm>
        </p:grpSpPr>
        <p:pic>
          <p:nvPicPr>
            <p:cNvPr id="810" name="" descr=""/>
            <p:cNvPicPr/>
            <p:nvPr/>
          </p:nvPicPr>
          <p:blipFill>
            <a:blip r:embed="rId2"/>
            <a:srcRect l="0" t="5524" r="0" b="5719"/>
            <a:stretch/>
          </p:blipFill>
          <p:spPr>
            <a:xfrm>
              <a:off x="88920" y="76320"/>
              <a:ext cx="42926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57880" cy="58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1714680" y="800280"/>
            <a:ext cx="10426680" cy="818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reaty of Shimonoseki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pril 17, 1895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Japan owns Taiwan and the Penghu Islands (Liaoning Province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hina pays Japan 200 million Kuping taels for reparation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Japanese ships get permission to operate on the Yangtze River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he Boxer Rebellion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Early 1900s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Chinese peasants and every day people gathered an army called the “Boxers”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harmed foreigners and embassies 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anti-christian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ultimate goal was to stop imperialism from foreign nations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put down by eight nation alliance (british and japanese)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537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50760" y="165240"/>
            <a:ext cx="4826160" cy="519588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3"/>
          <a:stretch/>
        </p:blipFill>
        <p:spPr>
          <a:xfrm>
            <a:off x="4681440" y="3632040"/>
            <a:ext cx="8348760" cy="5969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Korea under Japanese Rule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94920" y="238716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Japan officially claimed Korea in 1905 and annexed in 1910 until 1945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Japan ultimately wanted their resources and to expand their empire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802880" y="-812880"/>
            <a:ext cx="109220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Japanese Empire 1939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127080" y="1727280"/>
            <a:ext cx="12752280" cy="778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22000" y="-57204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Second Sino-Japanese War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36840" y="2095200"/>
            <a:ext cx="10540800" cy="730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buClr>
                <a:srgbClr val="5483a6"/>
              </a:buClr>
              <a:buSzPct val="125000"/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July 7, 1937 to September 9,1945</a:t>
            </a:r>
            <a:br>
              <a:rPr sz="4600"/>
            </a:b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 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5483a6"/>
              </a:buClr>
              <a:buSzPct val="125000"/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Japan wanted resources without paying for it</a:t>
            </a:r>
            <a:br>
              <a:rPr sz="4600"/>
            </a:b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 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5483a6"/>
              </a:buClr>
              <a:buSzPct val="125000"/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Republic of China vs. Empire of Japan</a:t>
            </a:r>
            <a:br>
              <a:rPr sz="4600"/>
            </a:b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 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5483a6"/>
              </a:buClr>
              <a:buSzPct val="125000"/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hina was defending itself from Japanese advancements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119160" y="0"/>
            <a:ext cx="12763440" cy="975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629080" y="4013280"/>
            <a:ext cx="1054080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400" spc="-1" strike="noStrike">
                <a:solidFill>
                  <a:srgbClr val="ffffff"/>
                </a:solidFill>
                <a:latin typeface="Arial"/>
                <a:ea typeface="AppleGothic"/>
              </a:rPr>
              <a:t>抗日戰爭</a:t>
            </a:r>
            <a:endParaRPr b="0" lang="en-US" sz="14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629080" y="6515280"/>
            <a:ext cx="105408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e War to Resist the Japanese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31560" y="24084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Resistance.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92240" y="3314880"/>
            <a:ext cx="1054080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Japan surrendered to the Allies in August 1945 after the atomic bombs were dropped on Hiroshima and Nagasaki.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8077320" y="5672160"/>
            <a:ext cx="4521240" cy="356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0" y="0"/>
            <a:ext cx="4457880" cy="5880240"/>
            <a:chOff x="0" y="0"/>
            <a:chExt cx="4457880" cy="5880240"/>
          </a:xfrm>
        </p:grpSpPr>
        <p:pic>
          <p:nvPicPr>
            <p:cNvPr id="757" name="" descr=""/>
            <p:cNvPicPr/>
            <p:nvPr/>
          </p:nvPicPr>
          <p:blipFill>
            <a:blip r:embed="rId2"/>
            <a:srcRect l="6731" t="7676" r="6731" b="7942"/>
            <a:stretch/>
          </p:blipFill>
          <p:spPr>
            <a:xfrm>
              <a:off x="88920" y="76320"/>
              <a:ext cx="42926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57880" cy="58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1480" y="571680"/>
            <a:ext cx="5333760" cy="286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British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1480" y="3657240"/>
            <a:ext cx="5333760" cy="44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Strong nation at the time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Loves profit and expanding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Comes to China to look for new trade. 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They traded tea, spices, porcelain, and silk for silver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345680" y="2946240"/>
            <a:ext cx="10541160" cy="384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Japan had to retreat occupation from Korea and China. 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711360" y="88920"/>
            <a:ext cx="11455200" cy="953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1854360" y="114480"/>
            <a:ext cx="8915400" cy="95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THE END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anks for Watchening.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0" y="0"/>
            <a:ext cx="4457880" cy="5880240"/>
            <a:chOff x="0" y="0"/>
            <a:chExt cx="4457880" cy="5880240"/>
          </a:xfrm>
        </p:grpSpPr>
        <p:pic>
          <p:nvPicPr>
            <p:cNvPr id="762" name="" descr=""/>
            <p:cNvPicPr/>
            <p:nvPr/>
          </p:nvPicPr>
          <p:blipFill>
            <a:blip r:embed="rId2"/>
            <a:srcRect l="2000" t="0" r="1712" b="0"/>
            <a:stretch/>
          </p:blipFill>
          <p:spPr>
            <a:xfrm>
              <a:off x="88920" y="469800"/>
              <a:ext cx="4292640" cy="47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57880" cy="58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41480" y="-17820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Trade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41480" y="2844360"/>
            <a:ext cx="5333760" cy="582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Britain had nothing the Chinese wanted except silver currency which costed the Britain a fortune.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china was internally self sufficient.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they didn’t desire inferior foreign products.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0" y="0"/>
            <a:ext cx="4457880" cy="5880240"/>
            <a:chOff x="0" y="0"/>
            <a:chExt cx="4457880" cy="5880240"/>
          </a:xfrm>
        </p:grpSpPr>
        <p:pic>
          <p:nvPicPr>
            <p:cNvPr id="767" name="" descr=""/>
            <p:cNvPicPr/>
            <p:nvPr/>
          </p:nvPicPr>
          <p:blipFill>
            <a:blip r:embed="rId2"/>
            <a:srcRect l="0" t="0" r="47033" b="0"/>
            <a:stretch/>
          </p:blipFill>
          <p:spPr>
            <a:xfrm>
              <a:off x="114480" y="76320"/>
              <a:ext cx="426708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57880" cy="58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88480" y="367920"/>
            <a:ext cx="533412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Opium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41480" y="3505320"/>
            <a:ext cx="5333760" cy="410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en, Britain introduced Opium in the late 1930s.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addictive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recreational use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- britain made profi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387160" y="554940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hinese Opium Addic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2692440" y="838080"/>
            <a:ext cx="7620120" cy="585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Big Money?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In 1836, Britain smuggled 8 million pounds of opium into Chin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at equaled 18 million dollars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But when the Chinese government tried to kick out Opium, Britain retaliated with military force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31560" y="64728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Opium Wars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31560" y="3466800"/>
            <a:ext cx="10541160" cy="549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auses: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- differences in culture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- disregard for opium restrictions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Opium War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410040" indent="-4100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  <a:ea typeface="Helvetica Neue Bold Condensed"/>
              </a:rPr>
              <a:t>chinese demanded that foreign transgressors be turned over to the Chinese courts</a:t>
            </a:r>
            <a:endParaRPr b="0" lang="en-US" sz="4600" spc="-1" strike="noStrike">
              <a:solidFill>
                <a:srgbClr val="646461"/>
              </a:solidFill>
              <a:latin typeface="Helvetica Neue"/>
            </a:endParaRPr>
          </a:p>
          <a:p>
            <a:pPr marL="410040" indent="-4100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  <a:ea typeface="Helvetica Neue Bold Condensed"/>
              </a:rPr>
              <a:t>The British looked at China as a primitive heathen nation</a:t>
            </a:r>
            <a:endParaRPr b="0" lang="en-US" sz="4600" spc="-1" strike="noStrike">
              <a:solidFill>
                <a:srgbClr val="646461"/>
              </a:solidFill>
              <a:latin typeface="Helvetica Neue"/>
            </a:endParaRPr>
          </a:p>
          <a:p>
            <a:pPr marL="410040" indent="-4100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  <a:ea typeface="Helvetica Neue Bold Condensed"/>
              </a:rPr>
              <a:t>Chinese looked at the foreigners with the disdain born of centuries of culture. </a:t>
            </a:r>
            <a:endParaRPr b="0" lang="en-US" sz="4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